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C8F-E507-4E2F-91C6-2896C40D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20B-D1D5-445A-A88D-DE1FD56D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268-874E-4F84-9449-EA953DA3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DD9-2D33-458C-94BE-1403E816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2019-5C01-494C-B385-8150AD42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109E-C57F-4879-BD9E-37F0287C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6F4B-1F2C-44F8-9169-00F37D65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B654-FADD-4DEE-BE9B-C61E4D74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CD35-8582-42FC-8B23-C1C05C6E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BDD5-060B-4A28-B98A-444BEFC9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7383-BB8C-4844-995D-6AF9A215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E61-2B0F-41A3-94E3-E26E6E0C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B29B-1036-4199-A568-59964FB9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B217-246D-4984-A000-AD6F1495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A002-90AA-4C86-8722-B633A8C9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771E-CB35-418E-A06B-9B0CC77C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8908-465F-4847-963C-E2465B15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222-FC6A-405D-870B-DBE5953E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BBB-74CF-4DD5-8E13-8F8CBE7F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202-5442-4CCF-B681-E4BB696B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2FB-BFB9-48C0-B3DE-DE6969B1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3F5-D05F-4AA3-B9BA-3FE04380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939-7764-48BF-80CB-5D04E4D9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EAF-FBD7-4758-ABD7-06100757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DEF4-A78B-4E2D-AB65-8A9C8A7741D5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945D-4391-4827-AF4C-B785340EACF0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lection of 1860 &amp; Sece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lection of 1860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al 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Nomin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tutional Union Party:  John B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ern Democratic:  Stephen Doug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thern Democratic:  John Breckin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ublican:  Abraham Linco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62012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ublicans barely campaigned in the S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coln wins 40% of the popular vote but 180 Electoral V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9" descr="main"/>
          <p:cNvPicPr/>
          <p:nvPr/>
        </p:nvPicPr>
        <p:blipFill>
          <a:blip r:embed="rId1"/>
          <a:stretch/>
        </p:blipFill>
        <p:spPr>
          <a:xfrm>
            <a:off x="1523880" y="2514600"/>
            <a:ext cx="6477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Importance &amp; Impact of the Election of 1860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outherners viewed Lincol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victory as a victory for aboli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days of Lincol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win, South Carolina calls for secess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Buchanan will leave the issue of secession to Linco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cession Stat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Carolina, Dec. 20, 18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ssippi, Jan. 9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ida, Jan. 10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bama, Jan. 11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rgia, Jan. 19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iana, Jan. 26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, Feb. 1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ginia, Apr. 17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kansas, May 6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 Carolina, May 20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essee, Jun. 8, 1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cession Pros &amp; C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66680" y="1771560"/>
          <a:ext cx="7772400" cy="3772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orthern View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outhern View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tate had the right to sece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trine of states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ights (remember Compact Theo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s recognized the Constitution as the supreme law of the 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trine of Null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nd Resul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e States of America (C.S.A.) is establis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fferson Davis is their first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tution modeled on the U.S. 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the right to own sla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te is sovereign &amp;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lusion &amp; Opin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thern way of life is at stak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(Answer in notebook):  Do you believe the South had a legitimate claim to secede from the Union?  Why or why n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2:27:29Z</dcterms:created>
  <dc:creator>Robert G. Finkbeiner</dc:creator>
  <dc:description/>
  <dc:language>en-US</dc:language>
  <cp:lastModifiedBy>PA Department of Education Classrooms for the Future</cp:lastModifiedBy>
  <dcterms:modified xsi:type="dcterms:W3CDTF">2011-11-02T13:42:31Z</dcterms:modified>
  <cp:revision>13</cp:revision>
  <dc:subject/>
  <dc:title>Election of 1860 &amp; Secession</dc:title>
</cp:coreProperties>
</file>